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EA8-760A-4F1E-B1B5-6D7D11AA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3EF-972B-4626-838C-73BD70D2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045-7A13-4F63-827E-13773E12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8CB-E358-4CE2-A2E6-EFBC5EE4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687-CD12-4DE4-9112-2A70A014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E68-E84A-44B8-A2BE-3725F26C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99B-805A-494D-AC36-6012C88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23C-D768-464A-85A3-1EBC715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972-88FE-453A-8967-4738293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920-66B3-4B7A-B415-E92971A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CC4-702A-4344-AFF0-824CF4B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0A8-A0F2-4533-8663-24ABB31F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2676-94F7-408A-BE29-BC137CECC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tronom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moon, stars and other objects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spinning motion of a planet on its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he imaginary line that passes through Earth’s center and the North and South poles, about which earth ro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rotation causes 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otates once in 24 hours = 1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arth_rotation"/>
          <p:cNvPicPr/>
          <p:nvPr/>
        </p:nvPicPr>
        <p:blipFill>
          <a:blip r:embed="rId1"/>
          <a:stretch/>
        </p:blipFill>
        <p:spPr>
          <a:xfrm>
            <a:off x="609480" y="914400"/>
            <a:ext cx="3195720" cy="40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905280" cy="4095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219320" y="5256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: NY gets sun before C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Fact: Earth rotates counterclock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: Sun rises in the east; sets in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72400" cy="458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2:02:39Z</dcterms:created>
  <dc:creator>skrial</dc:creator>
  <dc:description/>
  <dc:language>en-US</dc:language>
  <cp:lastModifiedBy>skrial</cp:lastModifiedBy>
  <dcterms:modified xsi:type="dcterms:W3CDTF">2010-09-20T13:38:07Z</dcterms:modified>
  <cp:revision>6</cp:revision>
  <dc:subject/>
  <dc:title>Notes 9/24-25</dc:title>
</cp:coreProperties>
</file>